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7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FD01-D227-4441-815D-B30965E1C7E4}"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1443-3033-47CD-9540-30445B9C20A7}"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6235-E545-4749-8DBD-D2CEFE0F8F6C}"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6844-04D7-49A5-8184-8CC3D3597A5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33ccff"/>
                </a:solidFill>
                <a:latin typeface="Impact"/>
              </a:rPr>
              <a:t>Содержание</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очему Египет так называют?</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ультур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Религия</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скусство</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Боги</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Миф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рамид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арт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сьменность</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ероглиф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BAEC-5E51-49BD-8AFA-CF2C32192BB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Calibri"/>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200"/>
            </a:br>
            <a:r>
              <a:rPr b="1" lang="ru-RU" sz="1200" spc="-1" strike="noStrike">
                <a:solidFill>
                  <a:srgbClr val="1f497d"/>
                </a:solidFill>
                <a:latin typeface="Calibri"/>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200"/>
            </a:br>
            <a:r>
              <a:rPr b="1" lang="ru-RU" sz="1200" spc="-1" strike="noStrike">
                <a:solidFill>
                  <a:srgbClr val="1f497d"/>
                </a:solidFill>
                <a:latin typeface="Calibri"/>
              </a:rPr>
              <a:t>Так что наше слово «Египет» тоже очень древнее, но оно пришло из древнегреческо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2205-6539-4142-8B3D-A0FE6A07452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ивилизация Древнего Египта насчитывает более 3000 лет. В конце </a:t>
            </a:r>
            <a:r>
              <a:rPr b="0" lang="en-US" sz="1200" spc="-1" strike="noStrike">
                <a:solidFill>
                  <a:srgbClr val="000000"/>
                </a:solidFill>
                <a:latin typeface="Calibri"/>
              </a:rPr>
              <a:t>IV</a:t>
            </a:r>
            <a:r>
              <a:rPr b="0" lang="ru-RU" sz="1200" spc="-1" strike="noStrike">
                <a:solidFill>
                  <a:srgbClr val="000000"/>
                </a:solidFill>
                <a:latin typeface="Calibri"/>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ADF5-3B49-4538-9AE6-ED1A0DC74F99}"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79FB-140E-41BB-9011-A14073F3866F}"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у египтян прошли греческие мастера, а все мы – выученики греков. Поэтому искусство Древнего Египта для нас чрезвычайно ва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1448-867B-4446-9A39-73EC913FAB7C}"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AA6F-4FD2-46FA-82FC-F59691C416D1}"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е место в египетском пантеоне занимал бог Ра. Он являлся богом солнца, богом све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х - это крест, у которого вместо верхней палочки находиться круг. В средневековой алхимии анх являлся символом бессмер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ом высшей мудрости и правды, олицетворением лучших сторон человеческой природы, воплощением ума у египтян являлся бог То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Амон считался всесущим божеством воздуха и ветра, которое наполняет весь видимый мир, дает жизнь всему живущем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C317-8B5F-43D4-A095-D01CD9B4BD4F}"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A1AC-5940-4F74-90AF-0DA913BD7974}"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CB70C-F96B-4277-8804-7DA99ED7B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8DD2F-06D9-42F8-AC7C-32625FD5A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2CF736-BF8A-491C-8331-6BA539ABE1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D54F82-FE91-42D2-BAD8-1272847F46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5BEE38-0B94-47E5-9877-B5F4305A5E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DC9C15-5FCE-400D-883B-13F66FED7D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9A637B-5700-44D8-A26E-B473FD94A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6E66ED-9622-4478-B8FC-34961FF242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756AD3-1039-4DCA-86FB-AD1A3FE853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418E10-D806-4949-A299-78A650F47D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103B73-759E-484F-A90B-B4B5A136F5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47808C-FBFF-4DCC-9EC4-A9CB7D9AAAA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539FF-7491-4360-AB3A-3061CBBE6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F94E13-7CF7-4214-ADA5-D0CC5D9F8C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9EFEFB-2A6B-47E7-A495-117B2FEEF9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019FAE-3D49-4CB6-86D2-9615109D4B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B14E25-CE63-4C77-A030-6DC3ED8282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DD7723-5EC3-4747-B82F-ACDEE40A61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581B0A-450D-4D34-82A6-BFAE3F2421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7B3965-91A2-4E2A-AB03-86C2F57A74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48726F-0DD2-4E3A-B994-D10B0C99AA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CF35F3-62FD-44CB-B1C4-D88A4591E6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AF6B9F-B5D8-44DA-8F70-AE0E1B9386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22C89-338E-4A91-A91C-CCE12702F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93D8569-6E5E-4A3C-AB86-ABCC872F9F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EC5469-7000-4201-8D55-AE8816893E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21E777-66F3-431C-8FEE-EF5CA00EBC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D9BDE5-593C-449D-81C1-2D155397B9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7754E3-7C41-4A17-9FEB-E0F3F7264C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DFD185-5481-41CD-9463-4C22BC49C3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786447-6C3D-408C-9559-EE565C920C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BBDA4E-5FEB-42E7-8E03-2089C85041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06B4EA-09AF-45F0-9F5D-0CBDF8EDA0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4BDCFB-86EF-4740-94ED-03CDFDB170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BE171-5DB5-4646-B31E-619445AB3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5B4715-45AA-4DD9-8CFB-039DF9C2E7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169193-8F49-4956-92C0-B86EDB0FE3B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AC1449-1863-4F29-BACE-2A781894E6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975864F-91A2-42A7-8384-6771FA4D7BC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7BFA19-D13F-4A95-BF3E-A779C7F33D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287941-530C-4DF2-A53A-0A5C27B066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5092A7-EAFA-4183-A11A-F465421C15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D4A1D1-4E2A-4520-8E6E-4CE3B3FC1A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002546-FBA3-4317-83B6-86001E95F8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9E4D75-E3AF-496A-B4DC-2B895E0190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CF11D-5413-48FC-89D6-73A9DEE77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FAF348-EEB6-4998-A4AB-0CB0E34228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4C7A8A-AC01-484B-8B7B-6280A35A5D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FEB100-46F4-4710-9EA5-A494AD43DF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58A962-32E6-4F57-A5E0-7AFB3AE696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50B35D-CF44-48F1-8804-C7099F92B09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59310B1-9378-4397-81F4-2EF941B09D0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C3E910-DA74-4EE9-A2F2-23C4B68583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297C59-3C29-4E0C-8DD0-214A55A7AE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26532B-7AE2-4946-819F-FCF2DFF380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774050-E4F1-48CB-805A-E4B1DD40D2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E380D-A011-4C7F-B185-FC78BF33B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97E451-6E27-49EC-ABAF-9929A9B8D9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1F1514-2A02-408C-B1D5-5519F2A5B7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F0B13E-D39B-4878-86F3-156289514A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F97047-947A-43E1-A8A4-426C18C93F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DC5100-11D8-4FF1-83A6-86A5BA409E0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4EC3585-7952-4EC8-97AB-2F85617EDD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8F1B08B-B515-4A24-9616-C76AEE393BF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A8B730F-8903-4CB4-B0C2-AF6CCED53AA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15CE3C-90BD-48DA-908F-CDD168256B4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E27141-CD92-4ED3-B4F7-6E6A3AF5642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44121-FE6E-4B41-B62B-1DED46AD3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30D4FDB-2898-4876-B26A-CF48883C9F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25A1CB-1C40-4242-B325-823252812F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6AAB36-4505-4A39-B90E-2290CAF411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9CCBF5-5554-40C7-841A-CE6CE8A2EF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63FE0E-FD4C-4791-927C-142478170B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A5430A-45EE-46DF-82BA-A39E80D046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0EB12F-7DAD-4AD1-898D-489A3C4076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1BA4245-E5B8-4AB7-822B-6627DB3FE2E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B4D2667-190B-476F-8804-A6D2EA51CA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61DB58E-84E3-42A3-9FE9-AB8B439B65D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A92F3-5D41-45CB-B072-908BD1874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0AA53D-C904-42C4-9EEB-83A5CCB307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602CC10-C04D-4902-B38A-A370B408004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F78235A-B352-43C3-B0F3-AAD57513CD3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D1D784-09CD-43D2-878B-556ED0E1232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B5F345-19A7-4D64-AB6A-61A49B12674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72F3F9-4684-4436-B44C-6085E3D3A0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C2F3B50-8309-4AA3-B385-57BE4DF44D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4A53C3-DEA7-4251-9613-6526F5B69B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0721B88-C31A-4B88-981E-6C10EC9269A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0D707FE-7AA8-4392-B34D-6A6120805D5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FE0B0-7BD6-4288-BD6A-0A70B6777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21A07F-466B-4F0A-BBA7-7FD9B917FCB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864A6BA-AA86-4741-8AB6-6337FCEB3CE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FDB3089-B8BA-443A-8A82-0DFF826C12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EDDEDA3-8458-44D6-A803-8631841DB61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063983-3FA1-432D-B01F-F3AF02584B1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6854618-B4B8-46C9-831B-00AF3F734F6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758F9BB-2337-4EE0-A727-A5E73BFA892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B92603-9DE9-431E-BFF8-C672F91AE5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35BBBB-8DDE-4480-9812-F1270051D78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BFB0F4-8344-4DB4-B773-5F4BEE9B8F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AB26A-FBFC-40FE-A3CD-0A3CFA15E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A400841-71AC-40AB-A29D-A60CB84419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BBF756C-9647-4D82-AFDB-D34754A7480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441BEBF-464C-4972-B585-4CAAE9A40D4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BD24C82-D0C2-4D0C-B34C-67FD6DD4D14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5154158-618C-483F-B063-401B4BE69EE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C72D18C-CD3D-4543-B02E-8B994576138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7EB4470-505C-46FE-BAAB-477D7CA79A6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91DB846-089C-4DC6-8E65-5C07EAA22AF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8A1612B-B545-4AF7-B7D5-CCFF4954F3D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776ED8-45FE-4530-A700-9DFEE10329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3F9AE-2FD1-4BD5-9502-8523BD16A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38BFA-3723-4FA0-8ECB-D89C57970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AF8CA81-3ACF-48A2-989A-CB3B8471D8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2616384-A14A-4379-8815-29CEF8D90A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C0652A8-984A-40D4-865F-A757BFBC51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0606C1C-EC85-4669-8661-3013A7A39F9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D1775FE-2E74-429C-90A6-D20EBE960E8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E27BB-91B3-48E4-86EC-99F28223A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C64F9-9D6F-490B-A48B-F90D72FD7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646BA-653F-48FE-8F81-CE80ECA40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41D85-CF1C-478A-A020-D8F7C7334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775B3C-0765-44C3-9201-2A9390BB16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77857-5C78-4248-A144-FAECC3282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A1E72-BBAE-48BE-887A-7A34F9C65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CB190-6277-4569-B041-5A479EA0E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6E3D8-4692-453A-8208-C5A2BFC9A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EF014-DE52-464C-9F7C-88D81B871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1F846A-2FB0-4A63-925A-4DAA675EC8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40749-4144-44BB-8531-C2409215B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66A2D-BD05-4ECD-ADBE-324B55FD9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13ADA-6226-4E16-935A-26EBE9C86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FF151-9714-49F5-976A-1164BA308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6DFCC2-86F0-4903-A6FB-6C8FFA20C5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6E4412-505D-41E2-A08C-374F50DF57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9491B2-A3EF-4D6A-88A8-A1D1FAC123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9C3F39-0039-4E0E-AD09-9D8685F361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445267-3D45-49EA-84DE-24A5BBC40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66ABD-0999-4389-B807-36201DE0D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EC4061-6022-4A87-B2B1-EA025DB016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85E7B4-99DD-4037-A998-22DE8CA2F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EEFAA1-6517-4B76-B81A-3D9874534D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A987B-6C68-46B5-A327-5C7F3EAA0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14F47-0ABA-4EA9-83BE-9882F5566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1BF68-FC89-474C-AE60-BC3D03D4B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5B9B70-DDAF-4DFC-9718-CBE849113E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3DDE7A-8375-4AB3-A211-0405B1D0C9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B7ED75-2C07-4224-A2E2-02E03CE2EC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906719-568F-495B-9534-77FABCC818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D0448-BE21-4810-BBEF-8F5E68552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6A7C29-D044-4214-8EE3-7A12C3F27A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24CD54-BACD-4140-ACE5-2CB7C4A562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53E6C2-4A2B-4BA0-B47A-88283EF675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E2E536-7578-4E6C-936D-B12F0A8DDB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2A979B-1C45-4459-818C-73E7C35B85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8D2B55-056B-4985-83D8-E6A004F3C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CEA918-4870-43D3-94B6-86F5592AB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FF548-4100-484B-B037-A01C4A3D4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E61C78-4B21-450C-A01E-D1BA19E6D2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B5B63C-BBF7-4BAE-BBE6-0DCC096514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18E8A-081B-48E9-B661-BEEB7CE20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99DC7B-F52B-49C2-A4AF-48B5A50EAE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B9DCFA-DC10-4DBE-934E-138AC19B1E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3D49FA-F7D7-4F97-B626-F5D9441731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AE6562-43CB-4F33-9D06-6AC4F50119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90FA03-398E-48D6-B989-CE38E322F5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08160E-7FD6-4908-8856-D95400CD0D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540E17-419E-4D03-A9C0-8C2AFA3FD4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9CCD0-EDB7-47AA-8A85-DF93F613F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4CF4D-17F5-471A-BE1D-99E671ED5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DA19C-2551-4765-990A-FED9EB0857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8D307-27A8-4AC3-8CDE-C1A562EA2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F82003-4D81-4406-8DD3-1F058FB231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A6DF41-3188-4A43-A1B9-F289801DE9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B36890-1F73-46D0-AAF1-01B503363A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FFAF88-B764-449B-AAC6-5E0ECD996B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ADD930-BBDC-41C7-B2AF-882A217FD1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32B4D4-6A77-4B48-9278-24860B3148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2392B5-B3E0-4C27-9568-FC0AD5C45D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BD09D8-70E7-4A5F-9C5D-BF98A98FDF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9B8382-D529-441B-A600-A43A802DF4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0C4C6-D810-46C6-AD39-8968C0759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B65BA-18C0-4ADD-8796-0728B7DC8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FED24F-8BEC-40F6-8284-9B3A796DC4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AA7CD8-92E4-43A4-8FCF-50FE050E60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044A58-7B53-4244-9973-46D80B6131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2E6ECB-D598-4D5F-A854-0BC61FC6E2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4BDD50-EC72-4996-B7EF-9C7EEB63B7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D1B233-E410-4C0B-8C60-CB8393306D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85563-CBFD-4C09-9EA8-A24D2C55F9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174FDD-46C3-41D4-B27C-7CF896B037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1F9BF9-CB16-44DD-9373-6BF4281D92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A46E52-C58B-487C-AB40-E6583395A0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59D03-3A32-4BCD-8C23-6DA8F5A14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6A496C-4F50-46DC-93B5-8359A51CF1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FC2A3E-D48F-41AA-B610-5C127FA09C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02FB65-93E1-49BF-B65A-1561C52BE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04122D-00CB-42DC-99B0-117287631F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F8ED1B-AE5D-4FE7-97DA-376DC7B019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22C929-1E1B-43F7-97FD-C27E18271A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72AB31-C711-4A37-8283-A63B2A05F7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4DBF79-56E4-49E3-A800-E6B372B3FC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20B15F-A87A-4B7C-B201-AD7038E830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ECC8A7-B822-4B57-BBCD-D30C38FD61B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C795-3DB2-4501-95BE-F25101F44AAF}"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8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85"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PlaceHolder 4"/>
          <p:cNvSpPr>
            <a:spLocks noGrp="1"/>
          </p:cNvSpPr>
          <p:nvPr>
            <p:ph type="ftr" idx="29"/>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87" name="PlaceHolder 5"/>
          <p:cNvSpPr>
            <a:spLocks noGrp="1"/>
          </p:cNvSpPr>
          <p:nvPr>
            <p:ph type="sldNum" idx="30"/>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4D3D-9004-4CDC-AAE9-D12095378684}"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26"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28"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A3F0-62D1-4A93-AE7B-27177C0419DD}"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65"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6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69"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71"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5444-91A9-42AE-9D6E-9155A825DFD4}"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08"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1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13" name="PlaceHolder 3"/>
          <p:cNvSpPr>
            <a:spLocks noGrp="1"/>
          </p:cNvSpPr>
          <p:nvPr>
            <p:ph type="dt" idx="3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PlaceHolder 4"/>
          <p:cNvSpPr>
            <a:spLocks noGrp="1"/>
          </p:cNvSpPr>
          <p:nvPr>
            <p:ph type="ftr" idx="38"/>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15" name="PlaceHolder 5"/>
          <p:cNvSpPr>
            <a:spLocks noGrp="1"/>
          </p:cNvSpPr>
          <p:nvPr>
            <p:ph type="sldNum" idx="3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BE2B-C758-420E-ADC3-78E76CABEA7C}"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54" name="PlaceHolder 3"/>
          <p:cNvSpPr>
            <a:spLocks noGrp="1"/>
          </p:cNvSpPr>
          <p:nvPr>
            <p:ph type="dt" idx="4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5" name="PlaceHolder 4"/>
          <p:cNvSpPr>
            <a:spLocks noGrp="1"/>
          </p:cNvSpPr>
          <p:nvPr>
            <p:ph type="ftr" idx="4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56" name="PlaceHolder 5"/>
          <p:cNvSpPr>
            <a:spLocks noGrp="1"/>
          </p:cNvSpPr>
          <p:nvPr>
            <p:ph type="sldNum" idx="4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53AA-DAAF-4738-A70B-84D5CD3E2146}"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95" name="PlaceHolder 3"/>
          <p:cNvSpPr>
            <a:spLocks noGrp="1"/>
          </p:cNvSpPr>
          <p:nvPr>
            <p:ph type="dt" idx="4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PlaceHolder 4"/>
          <p:cNvSpPr>
            <a:spLocks noGrp="1"/>
          </p:cNvSpPr>
          <p:nvPr>
            <p:ph type="ftr" idx="4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97" name="PlaceHolder 5"/>
          <p:cNvSpPr>
            <a:spLocks noGrp="1"/>
          </p:cNvSpPr>
          <p:nvPr>
            <p:ph type="sldNum" idx="4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8499-C298-40DE-A1A3-9DDE8A152B0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3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36"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7" name="PlaceHolder 4"/>
          <p:cNvSpPr>
            <a:spLocks noGrp="1"/>
          </p:cNvSpPr>
          <p:nvPr>
            <p:ph type="ftr" idx="4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38" name="PlaceHolder 5"/>
          <p:cNvSpPr>
            <a:spLocks noGrp="1"/>
          </p:cNvSpPr>
          <p:nvPr>
            <p:ph type="sldNum" idx="48"/>
          </p:nvPr>
        </p:nvSpPr>
        <p:spPr>
          <a:xfrm>
            <a:off x="6843240" y="6314400"/>
            <a:ext cx="140112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0613-DBA9-432C-98BF-8909BE9193E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7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77" name="PlaceHolder 3"/>
          <p:cNvSpPr>
            <a:spLocks noGrp="1"/>
          </p:cNvSpPr>
          <p:nvPr>
            <p:ph type="dt" idx="4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8" name="PlaceHolder 4"/>
          <p:cNvSpPr>
            <a:spLocks noGrp="1"/>
          </p:cNvSpPr>
          <p:nvPr>
            <p:ph type="ftr" idx="50"/>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79" name="PlaceHolder 5"/>
          <p:cNvSpPr>
            <a:spLocks noGrp="1"/>
          </p:cNvSpPr>
          <p:nvPr>
            <p:ph type="sldNum" idx="5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695C-211C-4C6F-97A3-1DB11D5977D9}"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1086-A4DC-4A86-83E0-84DD722853EF}"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9B08-8C8E-4AE9-9DA3-B0214DA9961C}"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23"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2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29"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3624-D69D-49EE-BDBC-1A22FF7F2266}"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66"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7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7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75"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3C18-E29D-41A3-BE86-28900472EF7E}"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1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14"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16"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E2F8-85A5-4197-BC10-5F095B78F45E}"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5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4" name="Скругленный прямоугольник 10"/>
          <p:cNvGrpSpPr/>
          <p:nvPr/>
        </p:nvGrpSpPr>
        <p:grpSpPr>
          <a:xfrm>
            <a:off x="60480" y="60480"/>
            <a:ext cx="9028080" cy="6711840"/>
            <a:chOff x="60480" y="60480"/>
            <a:chExt cx="9028080" cy="6711840"/>
          </a:xfrm>
        </p:grpSpPr>
        <p:pic>
          <p:nvPicPr>
            <p:cNvPr id="255" name="Скругленный прямоугольник 10" descr=""/>
            <p:cNvPicPr/>
            <p:nvPr/>
          </p:nvPicPr>
          <p:blipFill>
            <a:blip r:embed="rId2"/>
            <a:stretch/>
          </p:blipFill>
          <p:spPr>
            <a:xfrm>
              <a:off x="60480" y="60480"/>
              <a:ext cx="9028080" cy="6711840"/>
            </a:xfrm>
            <a:prstGeom prst="rect">
              <a:avLst/>
            </a:prstGeom>
            <a:ln w="0">
              <a:noFill/>
            </a:ln>
          </p:spPr>
        </p:pic>
        <p:sp>
          <p:nvSpPr>
            <p:cNvPr id="256" name="Text Box 4"/>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57" name="Прямоугольник 14"/>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Прямоугольник 15"/>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Прямоугольник 16"/>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PlaceHolder 4"/>
          <p:cNvSpPr>
            <a:spLocks noGrp="1"/>
          </p:cNvSpPr>
          <p:nvPr>
            <p:ph type="ftr" idx="20"/>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64"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20FC-CFCB-4668-9BB2-580D78A56FA2}"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0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FE30-9CEC-451F-A2D2-4FE5F9AEA9DC}"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4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44"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46"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05B4-8843-4B92-9E80-72B5632D9491}"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art-trv.ru/gallery/files/1/egypt_pyramid.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otoart.org.ua/albums/userpics/foto_egypt_1.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pixdaus.com/pics/1210112365TlewSTf.jp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0" descr="top2"/>
          <p:cNvPicPr/>
          <p:nvPr/>
        </p:nvPicPr>
        <p:blipFill>
          <a:blip r:embed="rId1"/>
          <a:stretch/>
        </p:blipFill>
        <p:spPr>
          <a:xfrm>
            <a:off x="179280" y="1413000"/>
            <a:ext cx="5219640" cy="1969920"/>
          </a:xfrm>
          <a:prstGeom prst="rect">
            <a:avLst/>
          </a:prstGeom>
          <a:ln w="0">
            <a:noFill/>
          </a:ln>
        </p:spPr>
      </p:pic>
      <p:pic>
        <p:nvPicPr>
          <p:cNvPr id="724" name="Picture 11" descr="top1"/>
          <p:cNvPicPr/>
          <p:nvPr/>
        </p:nvPicPr>
        <p:blipFill>
          <a:blip r:embed="rId2"/>
          <a:stretch/>
        </p:blipFill>
        <p:spPr>
          <a:xfrm>
            <a:off x="5327640" y="189000"/>
            <a:ext cx="3816360" cy="2663640"/>
          </a:xfrm>
          <a:prstGeom prst="rect">
            <a:avLst/>
          </a:prstGeom>
          <a:ln w="0">
            <a:noFill/>
          </a:ln>
        </p:spPr>
      </p:pic>
      <p:pic>
        <p:nvPicPr>
          <p:cNvPr id="725" name="Picture 12" descr="МХК"/>
          <p:cNvPicPr/>
          <p:nvPr/>
        </p:nvPicPr>
        <p:blipFill>
          <a:blip r:embed="rId3"/>
          <a:stretch/>
        </p:blipFill>
        <p:spPr>
          <a:xfrm rot="20821200">
            <a:off x="324000" y="3716280"/>
            <a:ext cx="3089160" cy="2317680"/>
          </a:xfrm>
          <a:prstGeom prst="rect">
            <a:avLst/>
          </a:prstGeom>
          <a:ln w="9360">
            <a:solidFill>
              <a:srgbClr val="000000"/>
            </a:solidFill>
            <a:miter/>
          </a:ln>
        </p:spPr>
      </p:pic>
      <p:pic>
        <p:nvPicPr>
          <p:cNvPr id="726" name="Picture 13" descr="мхк_2"/>
          <p:cNvPicPr/>
          <p:nvPr/>
        </p:nvPicPr>
        <p:blipFill>
          <a:blip r:embed="rId4"/>
          <a:stretch/>
        </p:blipFill>
        <p:spPr>
          <a:xfrm rot="681600">
            <a:off x="5867280" y="3500280"/>
            <a:ext cx="2592360" cy="1944720"/>
          </a:xfrm>
          <a:prstGeom prst="rect">
            <a:avLst/>
          </a:prstGeom>
          <a:ln w="9360">
            <a:solidFill>
              <a:srgbClr val="000000"/>
            </a:solidFill>
            <a:miter/>
          </a:ln>
        </p:spPr>
      </p:pic>
      <p:sp>
        <p:nvSpPr>
          <p:cNvPr id="7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723"/>
                                        </p:tgtEl>
                                        <p:attrNameLst>
                                          <p:attrName>style.visibility</p:attrName>
                                        </p:attrNameLst>
                                      </p:cBhvr>
                                      <p:to>
                                        <p:strVal val="visible"/>
                                      </p:to>
                                    </p:set>
                                    <p:anim calcmode="lin" valueType="num">
                                      <p:cBhvr additive="repl">
                                        <p:cTn id="7"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10" dur="1000" fill="hold"/>
                                        <p:tgtEl>
                                          <p:spTgt spid="7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72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4">
                                  <p:stCondLst>
                                    <p:cond delay="0"/>
                                  </p:stCondLst>
                                  <p:childTnLst>
                                    <p:set>
                                      <p:cBhvr>
                                        <p:cTn id="18" dur="1" fill="hold">
                                          <p:stCondLst>
                                            <p:cond delay="0"/>
                                          </p:stCondLst>
                                        </p:cTn>
                                        <p:tgtEl>
                                          <p:spTgt spid="724"/>
                                        </p:tgtEl>
                                        <p:attrNameLst>
                                          <p:attrName>style.visibility</p:attrName>
                                        </p:attrNameLst>
                                      </p:cBhvr>
                                      <p:to>
                                        <p:strVal val="visible"/>
                                      </p:to>
                                    </p:set>
                                    <p:anim calcmode="lin" valueType="num">
                                      <p:cBhvr additive="repl">
                                        <p:cTn id="19" dur="500" fill="hold"/>
                                        <p:tgtEl>
                                          <p:spTgt spid="724"/>
                                        </p:tgtEl>
                                        <p:attrNameLst>
                                          <p:attrName>ppt_w</p:attrName>
                                        </p:attrNameLst>
                                      </p:cBhvr>
                                      <p:tavLst>
                                        <p:tav tm="0">
                                          <p:val>
                                            <p:strVal val="#ppt_w*0.05"/>
                                          </p:val>
                                        </p:tav>
                                        <p:tav tm="100000">
                                          <p:val>
                                            <p:strVal val="#ppt_w"/>
                                          </p:val>
                                        </p:tav>
                                      </p:tavLst>
                                    </p:anim>
                                    <p:anim calcmode="lin" valueType="num">
                                      <p:cBhvr additive="repl">
                                        <p:cTn id="20" dur="500" fill="hold"/>
                                        <p:tgtEl>
                                          <p:spTgt spid="724"/>
                                        </p:tgtEl>
                                        <p:attrNameLst>
                                          <p:attrName>ppt_h</p:attrName>
                                        </p:attrNameLst>
                                      </p:cBhvr>
                                      <p:tavLst>
                                        <p:tav tm="0">
                                          <p:val>
                                            <p:strVal val="#ppt_h"/>
                                          </p:val>
                                        </p:tav>
                                        <p:tav tm="100000">
                                          <p:val>
                                            <p:strVal val="#ppt_h"/>
                                          </p:val>
                                        </p:tav>
                                      </p:tavLst>
                                    </p:anim>
                                    <p:anim calcmode="lin" valueType="num">
                                      <p:cBhvr additive="repl">
                                        <p:cTn id="21" dur="500" fill="hold"/>
                                        <p:tgtEl>
                                          <p:spTgt spid="724"/>
                                        </p:tgtEl>
                                        <p:attrNameLst>
                                          <p:attrName>ppt_x</p:attrName>
                                        </p:attrNameLst>
                                      </p:cBhvr>
                                      <p:tavLst>
                                        <p:tav tm="0">
                                          <p:val>
                                            <p:strVal val="#ppt_x-.2"/>
                                          </p:val>
                                        </p:tav>
                                        <p:tav tm="100000">
                                          <p:val>
                                            <p:strVal val="#ppt_x"/>
                                          </p:val>
                                        </p:tav>
                                      </p:tavLst>
                                    </p:anim>
                                    <p:anim calcmode="lin" valueType="num">
                                      <p:cBhvr additive="repl">
                                        <p:cTn id="22" dur="500" fill="hold"/>
                                        <p:tgtEl>
                                          <p:spTgt spid="724"/>
                                        </p:tgtEl>
                                        <p:attrNameLst>
                                          <p:attrName>ppt_y</p:attrName>
                                        </p:attrNameLst>
                                      </p:cBhvr>
                                      <p:tavLst>
                                        <p:tav tm="0">
                                          <p:val>
                                            <p:strVal val="#ppt_y"/>
                                          </p:val>
                                        </p:tav>
                                        <p:tav tm="100000">
                                          <p:val>
                                            <p:strVal val="#ppt_y"/>
                                          </p:val>
                                        </p:tav>
                                      </p:tavLst>
                                    </p:anim>
                                    <p:animEffect filter="fade" transition="in">
                                      <p:cBhvr additive="repl">
                                        <p:cTn id="23" dur="500"/>
                                        <p:tgtEl>
                                          <p:spTgt spid="72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4">
                                  <p:stCondLst>
                                    <p:cond delay="0"/>
                                  </p:stCondLst>
                                  <p:childTnLst>
                                    <p:set>
                                      <p:cBhvr>
                                        <p:cTn id="27" dur="1" fill="hold">
                                          <p:stCondLst>
                                            <p:cond delay="0"/>
                                          </p:stCondLst>
                                        </p:cTn>
                                        <p:tgtEl>
                                          <p:spTgt spid="725"/>
                                        </p:tgtEl>
                                        <p:attrNameLst>
                                          <p:attrName>style.visibility</p:attrName>
                                        </p:attrNameLst>
                                      </p:cBhvr>
                                      <p:to>
                                        <p:strVal val="visible"/>
                                      </p:to>
                                    </p:set>
                                    <p:anim calcmode="lin" valueType="num">
                                      <p:cBhvr additive="repl">
                                        <p:cTn id="28" dur="500" fill="hold"/>
                                        <p:tgtEl>
                                          <p:spTgt spid="725"/>
                                        </p:tgtEl>
                                        <p:attrNameLst>
                                          <p:attrName>ppt_w</p:attrName>
                                        </p:attrNameLst>
                                      </p:cBhvr>
                                      <p:tavLst>
                                        <p:tav tm="0">
                                          <p:val>
                                            <p:strVal val="#ppt_w*0.05"/>
                                          </p:val>
                                        </p:tav>
                                        <p:tav tm="100000">
                                          <p:val>
                                            <p:strVal val="#ppt_w"/>
                                          </p:val>
                                        </p:tav>
                                      </p:tavLst>
                                    </p:anim>
                                    <p:anim calcmode="lin" valueType="num">
                                      <p:cBhvr additive="repl">
                                        <p:cTn id="29" dur="500" fill="hold"/>
                                        <p:tgtEl>
                                          <p:spTgt spid="725"/>
                                        </p:tgtEl>
                                        <p:attrNameLst>
                                          <p:attrName>ppt_h</p:attrName>
                                        </p:attrNameLst>
                                      </p:cBhvr>
                                      <p:tavLst>
                                        <p:tav tm="0">
                                          <p:val>
                                            <p:strVal val="#ppt_h"/>
                                          </p:val>
                                        </p:tav>
                                        <p:tav tm="100000">
                                          <p:val>
                                            <p:strVal val="#ppt_h"/>
                                          </p:val>
                                        </p:tav>
                                      </p:tavLst>
                                    </p:anim>
                                    <p:anim calcmode="lin" valueType="num">
                                      <p:cBhvr additive="repl">
                                        <p:cTn id="30" dur="500" fill="hold"/>
                                        <p:tgtEl>
                                          <p:spTgt spid="725"/>
                                        </p:tgtEl>
                                        <p:attrNameLst>
                                          <p:attrName>ppt_x</p:attrName>
                                        </p:attrNameLst>
                                      </p:cBhvr>
                                      <p:tavLst>
                                        <p:tav tm="0">
                                          <p:val>
                                            <p:strVal val="#ppt_x-.2"/>
                                          </p:val>
                                        </p:tav>
                                        <p:tav tm="100000">
                                          <p:val>
                                            <p:strVal val="#ppt_x"/>
                                          </p:val>
                                        </p:tav>
                                      </p:tavLst>
                                    </p:anim>
                                    <p:anim calcmode="lin" valueType="num">
                                      <p:cBhvr additive="repl">
                                        <p:cTn id="31" dur="500" fill="hold"/>
                                        <p:tgtEl>
                                          <p:spTgt spid="725"/>
                                        </p:tgtEl>
                                        <p:attrNameLst>
                                          <p:attrName>ppt_y</p:attrName>
                                        </p:attrNameLst>
                                      </p:cBhvr>
                                      <p:tavLst>
                                        <p:tav tm="0">
                                          <p:val>
                                            <p:strVal val="#ppt_y"/>
                                          </p:val>
                                        </p:tav>
                                        <p:tav tm="100000">
                                          <p:val>
                                            <p:strVal val="#ppt_y"/>
                                          </p:val>
                                        </p:tav>
                                      </p:tavLst>
                                    </p:anim>
                                    <p:animEffect filter="fade" transition="in">
                                      <p:cBhvr additive="repl">
                                        <p:cTn id="32" dur="500"/>
                                        <p:tgtEl>
                                          <p:spTgt spid="72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726"/>
                                        </p:tgtEl>
                                        <p:attrNameLst>
                                          <p:attrName>style.visibility</p:attrName>
                                        </p:attrNameLst>
                                      </p:cBhvr>
                                      <p:to>
                                        <p:strVal val="visible"/>
                                      </p:to>
                                    </p:set>
                                    <p:animEffect filter="checkerboard(across)" transition="in">
                                      <p:cBhvr additive="repl">
                                        <p:cTn id="37"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3" name="Picture 5" descr="stock"/>
          <p:cNvPicPr/>
          <p:nvPr/>
        </p:nvPicPr>
        <p:blipFill>
          <a:blip r:embed="rId1"/>
          <a:stretch/>
        </p:blipFill>
        <p:spPr>
          <a:xfrm rot="21342600">
            <a:off x="250920" y="0"/>
            <a:ext cx="2450880" cy="2249640"/>
          </a:xfrm>
          <a:prstGeom prst="rect">
            <a:avLst/>
          </a:prstGeom>
          <a:ln w="9360">
            <a:solidFill>
              <a:srgbClr val="000000"/>
            </a:solidFill>
            <a:miter/>
          </a:ln>
        </p:spPr>
      </p:pic>
      <p:pic>
        <p:nvPicPr>
          <p:cNvPr id="764" name="Picture 7" descr="Картинка 2 из 7687">
            <a:hlinkClick r:id="rId2"/>
          </p:cNvPr>
          <p:cNvPicPr/>
          <p:nvPr/>
        </p:nvPicPr>
        <p:blipFill>
          <a:blip r:embed="rId3"/>
          <a:stretch/>
        </p:blipFill>
        <p:spPr>
          <a:xfrm rot="329400">
            <a:off x="2484000" y="189000"/>
            <a:ext cx="2233800" cy="1785960"/>
          </a:xfrm>
          <a:prstGeom prst="rect">
            <a:avLst/>
          </a:prstGeom>
          <a:ln w="9360">
            <a:solidFill>
              <a:srgbClr val="000000"/>
            </a:solidFill>
            <a:miter/>
          </a:ln>
        </p:spPr>
      </p:pic>
      <p:sp>
        <p:nvSpPr>
          <p:cNvPr id="765" name="Rectangle 8"/>
          <p:cNvSpPr/>
          <p:nvPr/>
        </p:nvSpPr>
        <p:spPr>
          <a:xfrm>
            <a:off x="2755800" y="1691280"/>
            <a:ext cx="6388200" cy="51840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7" name="Picture 5" descr="main"/>
          <p:cNvPicPr/>
          <p:nvPr/>
        </p:nvPicPr>
        <p:blipFill>
          <a:blip r:embed="rId1"/>
          <a:stretch/>
        </p:blipFill>
        <p:spPr>
          <a:xfrm>
            <a:off x="250920" y="549360"/>
            <a:ext cx="3497040" cy="5761080"/>
          </a:xfrm>
          <a:prstGeom prst="rect">
            <a:avLst/>
          </a:prstGeom>
          <a:ln w="0">
            <a:noFill/>
          </a:ln>
        </p:spPr>
      </p:pic>
      <p:pic>
        <p:nvPicPr>
          <p:cNvPr id="768" name="Picture 7" descr="2"/>
          <p:cNvPicPr/>
          <p:nvPr/>
        </p:nvPicPr>
        <p:blipFill>
          <a:blip r:embed="rId2"/>
          <a:stretch/>
        </p:blipFill>
        <p:spPr>
          <a:xfrm>
            <a:off x="4284720" y="620640"/>
            <a:ext cx="3744720" cy="2490840"/>
          </a:xfrm>
          <a:prstGeom prst="rect">
            <a:avLst/>
          </a:prstGeom>
          <a:ln w="0">
            <a:noFill/>
          </a:ln>
        </p:spPr>
      </p:pic>
      <p:sp>
        <p:nvSpPr>
          <p:cNvPr id="769" name="Text Box 8"/>
          <p:cNvSpPr/>
          <p:nvPr/>
        </p:nvSpPr>
        <p:spPr>
          <a:xfrm>
            <a:off x="5991120" y="57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a:t>
            </a:r>
            <a:endParaRPr b="0" lang="en-US" sz="2400" spc="-1" strike="noStrike">
              <a:solidFill>
                <a:srgbClr val="000000"/>
              </a:solidFill>
              <a:latin typeface="Tahoma"/>
            </a:endParaRPr>
          </a:p>
        </p:txBody>
      </p:sp>
      <p:sp>
        <p:nvSpPr>
          <p:cNvPr id="770" name="Text Box 9"/>
          <p:cNvSpPr/>
          <p:nvPr/>
        </p:nvSpPr>
        <p:spPr>
          <a:xfrm>
            <a:off x="6062040" y="3417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endParaRPr b="0" lang="en-US" sz="2000" spc="-1" strike="noStrike">
              <a:solidFill>
                <a:srgbClr val="000000"/>
              </a:solidFill>
              <a:latin typeface="Tahoma"/>
            </a:endParaRPr>
          </a:p>
        </p:txBody>
      </p:sp>
      <p:pic>
        <p:nvPicPr>
          <p:cNvPr id="771" name="Picture 11" descr="2"/>
          <p:cNvPicPr/>
          <p:nvPr/>
        </p:nvPicPr>
        <p:blipFill>
          <a:blip r:embed="rId3"/>
          <a:stretch/>
        </p:blipFill>
        <p:spPr>
          <a:xfrm>
            <a:off x="4356000" y="3933720"/>
            <a:ext cx="3527640" cy="2346480"/>
          </a:xfrm>
          <a:prstGeom prst="rect">
            <a:avLst/>
          </a:prstGeom>
          <a:ln w="0">
            <a:noFill/>
          </a:ln>
        </p:spPr>
      </p:pic>
      <p:sp>
        <p:nvSpPr>
          <p:cNvPr id="7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3" name="Picture 5" descr="3"/>
          <p:cNvPicPr/>
          <p:nvPr/>
        </p:nvPicPr>
        <p:blipFill>
          <a:blip r:embed="rId1"/>
          <a:stretch/>
        </p:blipFill>
        <p:spPr>
          <a:xfrm>
            <a:off x="2771640" y="5445000"/>
            <a:ext cx="6120000" cy="1181160"/>
          </a:xfrm>
          <a:prstGeom prst="rect">
            <a:avLst/>
          </a:prstGeom>
          <a:ln w="0">
            <a:noFill/>
          </a:ln>
        </p:spPr>
      </p:pic>
      <p:pic>
        <p:nvPicPr>
          <p:cNvPr id="774" name="Picture 7" descr="stock"/>
          <p:cNvPicPr/>
          <p:nvPr/>
        </p:nvPicPr>
        <p:blipFill>
          <a:blip r:embed="rId2"/>
          <a:stretch/>
        </p:blipFill>
        <p:spPr>
          <a:xfrm>
            <a:off x="324000" y="260280"/>
            <a:ext cx="2162160" cy="1984320"/>
          </a:xfrm>
          <a:prstGeom prst="rect">
            <a:avLst/>
          </a:prstGeom>
          <a:ln w="0">
            <a:noFill/>
          </a:ln>
        </p:spPr>
      </p:pic>
      <p:sp>
        <p:nvSpPr>
          <p:cNvPr id="775" name="Rectangle 8"/>
          <p:cNvSpPr/>
          <p:nvPr/>
        </p:nvSpPr>
        <p:spPr>
          <a:xfrm>
            <a:off x="3059280" y="251640"/>
            <a:ext cx="5403600" cy="24397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2000"/>
            </a:br>
            <a:endParaRPr b="0" lang="en-US" sz="2000" spc="-1" strike="noStrike">
              <a:solidFill>
                <a:srgbClr val="000000"/>
              </a:solidFill>
              <a:latin typeface="Tahoma"/>
            </a:endParaRPr>
          </a:p>
        </p:txBody>
      </p:sp>
      <p:sp>
        <p:nvSpPr>
          <p:cNvPr id="776" name="Rectangle 9"/>
          <p:cNvSpPr/>
          <p:nvPr/>
        </p:nvSpPr>
        <p:spPr>
          <a:xfrm>
            <a:off x="395280" y="2275920"/>
            <a:ext cx="561672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2000"/>
            </a:br>
            <a:endParaRPr b="0" lang="en-US" sz="2000" spc="-1" strike="noStrike">
              <a:solidFill>
                <a:srgbClr val="000000"/>
              </a:solidFill>
              <a:latin typeface="Tahoma"/>
            </a:endParaRPr>
          </a:p>
        </p:txBody>
      </p:sp>
      <p:sp>
        <p:nvSpPr>
          <p:cNvPr id="7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8" name="Picture 5" descr="1"/>
          <p:cNvPicPr/>
          <p:nvPr/>
        </p:nvPicPr>
        <p:blipFill>
          <a:blip r:embed="rId1"/>
          <a:stretch/>
        </p:blipFill>
        <p:spPr>
          <a:xfrm>
            <a:off x="1692360" y="189000"/>
            <a:ext cx="5375160" cy="2906640"/>
          </a:xfrm>
          <a:prstGeom prst="rect">
            <a:avLst/>
          </a:prstGeom>
          <a:ln w="0">
            <a:noFill/>
          </a:ln>
        </p:spPr>
      </p:pic>
      <p:sp>
        <p:nvSpPr>
          <p:cNvPr id="779" name="Rectangle 6"/>
          <p:cNvSpPr/>
          <p:nvPr/>
        </p:nvSpPr>
        <p:spPr>
          <a:xfrm>
            <a:off x="3564000" y="3428640"/>
            <a:ext cx="4854600" cy="15249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2000" spc="-1" strike="noStrike">
              <a:solidFill>
                <a:srgbClr val="000000"/>
              </a:solidFill>
              <a:latin typeface="Tahoma"/>
            </a:endParaRPr>
          </a:p>
        </p:txBody>
      </p:sp>
      <p:sp>
        <p:nvSpPr>
          <p:cNvPr id="7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Text Box 4"/>
          <p:cNvSpPr/>
          <p:nvPr/>
        </p:nvSpPr>
        <p:spPr>
          <a:xfrm>
            <a:off x="1239840" y="128412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9" name="Text Box 5"/>
          <p:cNvSpPr/>
          <p:nvPr/>
        </p:nvSpPr>
        <p:spPr>
          <a:xfrm>
            <a:off x="826920" y="1628640"/>
            <a:ext cx="4896000" cy="349056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очему Египет так называют?</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ультур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Религия</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скусство</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Боги</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М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рамид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арт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сьменность</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ерогл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0" name="WordArt 6"/>
          <p:cNvSpPr txBox="1"/>
          <p:nvPr/>
        </p:nvSpPr>
        <p:spPr>
          <a:xfrm>
            <a:off x="1979640" y="189000"/>
            <a:ext cx="4608360" cy="119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одерж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Rectangle 4"/>
          <p:cNvSpPr/>
          <p:nvPr/>
        </p:nvSpPr>
        <p:spPr>
          <a:xfrm>
            <a:off x="250920" y="283320"/>
            <a:ext cx="8675640" cy="5761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800"/>
            </a:br>
            <a:r>
              <a:rPr b="1" lang="ru-RU" sz="1800" spc="-1" strike="noStrike">
                <a:solidFill>
                  <a:srgbClr val="000000"/>
                </a:solidFill>
                <a:latin typeface="Tahoma"/>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800"/>
            </a:br>
            <a:r>
              <a:rPr b="1" lang="ru-RU" sz="1800" spc="-1" strike="noStrike">
                <a:solidFill>
                  <a:srgbClr val="000000"/>
                </a:solidFill>
                <a:latin typeface="Tahoma"/>
              </a:rPr>
              <a:t>Так что наше слово «Египет» тоже очень древнее, но оно пришло из древнегреческого. </a:t>
            </a:r>
            <a:endParaRPr b="0" lang="en-US" sz="1800" spc="-1" strike="noStrike">
              <a:solidFill>
                <a:srgbClr val="000000"/>
              </a:solidFill>
              <a:latin typeface="Tahoma"/>
            </a:endParaRPr>
          </a:p>
        </p:txBody>
      </p:sp>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4" name="Picture 5" descr="stock"/>
          <p:cNvPicPr/>
          <p:nvPr/>
        </p:nvPicPr>
        <p:blipFill>
          <a:blip r:embed="rId1"/>
          <a:stretch/>
        </p:blipFill>
        <p:spPr>
          <a:xfrm rot="334800">
            <a:off x="395280" y="1125000"/>
            <a:ext cx="2735280" cy="2509920"/>
          </a:xfrm>
          <a:prstGeom prst="rect">
            <a:avLst/>
          </a:prstGeom>
          <a:ln w="9360">
            <a:solidFill>
              <a:srgbClr val="000000"/>
            </a:solidFill>
            <a:miter/>
          </a:ln>
        </p:spPr>
      </p:pic>
      <p:sp>
        <p:nvSpPr>
          <p:cNvPr id="735" name="Rectangle 6"/>
          <p:cNvSpPr/>
          <p:nvPr/>
        </p:nvSpPr>
        <p:spPr>
          <a:xfrm>
            <a:off x="3564000" y="322920"/>
            <a:ext cx="5108400" cy="4269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Цивилизация Древнего Египта насчитывает более 3000 лет. В конце </a:t>
            </a:r>
            <a:r>
              <a:rPr b="0" lang="en-US" sz="2000" spc="-1" strike="noStrike">
                <a:solidFill>
                  <a:srgbClr val="000000"/>
                </a:solidFill>
                <a:latin typeface="Tahoma"/>
              </a:rPr>
              <a:t>IV</a:t>
            </a:r>
            <a:r>
              <a:rPr b="0" lang="ru-RU" sz="2000" spc="-1" strike="noStrike">
                <a:solidFill>
                  <a:srgbClr val="000000"/>
                </a:solidFill>
                <a:latin typeface="Tahoma"/>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2000" spc="-1" strike="noStrike">
              <a:solidFill>
                <a:srgbClr val="000000"/>
              </a:solidFill>
              <a:latin typeface="Tahoma"/>
            </a:endParaRPr>
          </a:p>
        </p:txBody>
      </p:sp>
      <p:sp>
        <p:nvSpPr>
          <p:cNvPr id="736" name="Rectangle 7"/>
          <p:cNvSpPr/>
          <p:nvPr/>
        </p:nvSpPr>
        <p:spPr>
          <a:xfrm>
            <a:off x="250920" y="4500000"/>
            <a:ext cx="455760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2000" spc="-1" strike="noStrike">
              <a:solidFill>
                <a:srgbClr val="000000"/>
              </a:solidFill>
              <a:latin typeface="Tahoma"/>
            </a:endParaRPr>
          </a:p>
        </p:txBody>
      </p:sp>
      <p:sp>
        <p:nvSpPr>
          <p:cNvPr id="7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8" name="Picture 5" descr="stock"/>
          <p:cNvPicPr/>
          <p:nvPr/>
        </p:nvPicPr>
        <p:blipFill>
          <a:blip r:embed="rId1"/>
          <a:stretch/>
        </p:blipFill>
        <p:spPr>
          <a:xfrm rot="21150600">
            <a:off x="324000" y="836640"/>
            <a:ext cx="3027240" cy="2778120"/>
          </a:xfrm>
          <a:prstGeom prst="rect">
            <a:avLst/>
          </a:prstGeom>
          <a:ln w="9360">
            <a:solidFill>
              <a:srgbClr val="000000"/>
            </a:solidFill>
            <a:miter/>
          </a:ln>
        </p:spPr>
      </p:pic>
      <p:sp>
        <p:nvSpPr>
          <p:cNvPr id="739" name="Rectangle 6"/>
          <p:cNvSpPr/>
          <p:nvPr/>
        </p:nvSpPr>
        <p:spPr>
          <a:xfrm>
            <a:off x="3708360" y="48600"/>
            <a:ext cx="511164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2000" spc="-1" strike="noStrike">
              <a:solidFill>
                <a:srgbClr val="000000"/>
              </a:solidFill>
              <a:latin typeface="Tahoma"/>
            </a:endParaRPr>
          </a:p>
        </p:txBody>
      </p:sp>
      <p:sp>
        <p:nvSpPr>
          <p:cNvPr id="740" name="Rectangle 7"/>
          <p:cNvSpPr/>
          <p:nvPr/>
        </p:nvSpPr>
        <p:spPr>
          <a:xfrm>
            <a:off x="4427640" y="3060000"/>
            <a:ext cx="4538520" cy="2744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2000" spc="-1" strike="noStrike">
              <a:solidFill>
                <a:srgbClr val="000000"/>
              </a:solidFill>
              <a:latin typeface="Tahoma"/>
            </a:endParaRPr>
          </a:p>
        </p:txBody>
      </p:sp>
      <p:sp>
        <p:nvSpPr>
          <p:cNvPr id="741" name="Rectangle 8"/>
          <p:cNvSpPr/>
          <p:nvPr/>
        </p:nvSpPr>
        <p:spPr>
          <a:xfrm>
            <a:off x="324000" y="4507920"/>
            <a:ext cx="374472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2000"/>
            </a:br>
            <a:endParaRPr b="0" lang="en-US" sz="2000" spc="-1" strike="noStrike">
              <a:solidFill>
                <a:srgbClr val="000000"/>
              </a:solidFill>
              <a:latin typeface="Tahoma"/>
            </a:endParaRPr>
          </a:p>
        </p:txBody>
      </p:sp>
      <p:sp>
        <p:nvSpPr>
          <p:cNvPr id="7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3" name="Picture 5" descr="stock"/>
          <p:cNvPicPr/>
          <p:nvPr/>
        </p:nvPicPr>
        <p:blipFill>
          <a:blip r:embed="rId1"/>
          <a:stretch/>
        </p:blipFill>
        <p:spPr>
          <a:xfrm rot="196800">
            <a:off x="5866920" y="259920"/>
            <a:ext cx="2954520" cy="2711520"/>
          </a:xfrm>
          <a:prstGeom prst="rect">
            <a:avLst/>
          </a:prstGeom>
          <a:ln w="9360">
            <a:solidFill>
              <a:srgbClr val="000000"/>
            </a:solidFill>
            <a:miter/>
          </a:ln>
        </p:spPr>
      </p:pic>
      <p:sp>
        <p:nvSpPr>
          <p:cNvPr id="744" name="Rectangle 6"/>
          <p:cNvSpPr/>
          <p:nvPr/>
        </p:nvSpPr>
        <p:spPr>
          <a:xfrm>
            <a:off x="395280" y="333000"/>
            <a:ext cx="5216400" cy="12200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2000" spc="-1" strike="noStrike">
              <a:solidFill>
                <a:srgbClr val="000000"/>
              </a:solidFill>
              <a:latin typeface="Tahoma"/>
            </a:endParaRPr>
          </a:p>
        </p:txBody>
      </p:sp>
      <p:sp>
        <p:nvSpPr>
          <p:cNvPr id="745" name="Rectangle 7"/>
          <p:cNvSpPr/>
          <p:nvPr/>
        </p:nvSpPr>
        <p:spPr>
          <a:xfrm>
            <a:off x="395280" y="1772640"/>
            <a:ext cx="502596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2000" spc="-1" strike="noStrike">
              <a:solidFill>
                <a:srgbClr val="000000"/>
              </a:solidFill>
              <a:latin typeface="Tahoma"/>
            </a:endParaRPr>
          </a:p>
        </p:txBody>
      </p:sp>
      <p:sp>
        <p:nvSpPr>
          <p:cNvPr id="746" name="Rectangle 8"/>
          <p:cNvSpPr/>
          <p:nvPr/>
        </p:nvSpPr>
        <p:spPr>
          <a:xfrm>
            <a:off x="324000" y="3995280"/>
            <a:ext cx="8820000" cy="182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2000" spc="-1" strike="noStrike">
              <a:solidFill>
                <a:srgbClr val="000000"/>
              </a:solidFill>
              <a:latin typeface="Tahoma"/>
            </a:endParaRPr>
          </a:p>
        </p:txBody>
      </p:sp>
      <p:sp>
        <p:nvSpPr>
          <p:cNvPr id="747" name="Rectangle 9"/>
          <p:cNvSpPr/>
          <p:nvPr/>
        </p:nvSpPr>
        <p:spPr>
          <a:xfrm>
            <a:off x="324000" y="5943240"/>
            <a:ext cx="7583400" cy="9151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Школу египтян прошли греческие мастера, а все мы – выученики греков. Поэтому искусство Древнего Египта для нас чрезвычайно важно. </a:t>
            </a:r>
            <a:endParaRPr b="0" lang="en-US" sz="2000" spc="-1" strike="noStrike">
              <a:solidFill>
                <a:srgbClr val="000000"/>
              </a:solidFill>
              <a:latin typeface="Tahoma"/>
            </a:endParaRPr>
          </a:p>
        </p:txBody>
      </p:sp>
      <p:sp>
        <p:nvSpPr>
          <p:cNvPr id="7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9" name="Picture 5" descr="stock"/>
          <p:cNvPicPr/>
          <p:nvPr/>
        </p:nvPicPr>
        <p:blipFill>
          <a:blip r:embed="rId1"/>
          <a:stretch/>
        </p:blipFill>
        <p:spPr>
          <a:xfrm rot="21081000">
            <a:off x="250920" y="260280"/>
            <a:ext cx="2666880" cy="2448000"/>
          </a:xfrm>
          <a:prstGeom prst="rect">
            <a:avLst/>
          </a:prstGeom>
          <a:ln w="0">
            <a:noFill/>
          </a:ln>
        </p:spPr>
      </p:pic>
      <p:pic>
        <p:nvPicPr>
          <p:cNvPr id="750" name="Picture 9" descr="Картинка 2 из 7687">
            <a:hlinkClick r:id="rId2"/>
          </p:cNvPr>
          <p:cNvPicPr/>
          <p:nvPr/>
        </p:nvPicPr>
        <p:blipFill>
          <a:blip r:embed="rId3"/>
          <a:stretch/>
        </p:blipFill>
        <p:spPr>
          <a:xfrm rot="614400">
            <a:off x="324000" y="2781360"/>
            <a:ext cx="2519280" cy="1890720"/>
          </a:xfrm>
          <a:prstGeom prst="rect">
            <a:avLst/>
          </a:prstGeom>
          <a:ln w="0">
            <a:noFill/>
          </a:ln>
        </p:spPr>
      </p:pic>
      <p:sp>
        <p:nvSpPr>
          <p:cNvPr id="751" name="Rectangle 10"/>
          <p:cNvSpPr/>
          <p:nvPr/>
        </p:nvSpPr>
        <p:spPr>
          <a:xfrm>
            <a:off x="3059280" y="-307080"/>
            <a:ext cx="5889600" cy="7107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2000" spc="-1" strike="noStrike">
              <a:solidFill>
                <a:srgbClr val="000000"/>
              </a:solidFill>
              <a:latin typeface="Tahoma"/>
            </a:endParaRPr>
          </a:p>
        </p:txBody>
      </p:sp>
      <p:sp>
        <p:nvSpPr>
          <p:cNvPr id="7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Rectangle 4"/>
          <p:cNvSpPr/>
          <p:nvPr/>
        </p:nvSpPr>
        <p:spPr>
          <a:xfrm>
            <a:off x="324000" y="259200"/>
            <a:ext cx="668484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ажное место в египетском пантеоне занимал бог Ра. Он являлся богом солнца, богом света. </a:t>
            </a:r>
            <a:endParaRPr b="0" lang="en-US" sz="2000" spc="-1" strike="noStrike">
              <a:solidFill>
                <a:srgbClr val="000000"/>
              </a:solidFill>
              <a:latin typeface="Tahoma"/>
            </a:endParaRPr>
          </a:p>
        </p:txBody>
      </p:sp>
      <p:sp>
        <p:nvSpPr>
          <p:cNvPr id="754" name="Rectangle 5"/>
          <p:cNvSpPr/>
          <p:nvPr/>
        </p:nvSpPr>
        <p:spPr>
          <a:xfrm>
            <a:off x="115920" y="1128960"/>
            <a:ext cx="90280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х - это крест, у которого вместо верхней палочки находиться круг. В средневековой алхимии анх являлся символом бессмертия.</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5" name="Rectangle 6"/>
          <p:cNvSpPr/>
          <p:nvPr/>
        </p:nvSpPr>
        <p:spPr>
          <a:xfrm>
            <a:off x="1187280" y="1992600"/>
            <a:ext cx="775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деалом высшей мудрости и правды, олицетворением лучших сторон человеческой природы, воплощением ума у египтян являлся бог Тот.</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6" name="Rectangle 8"/>
          <p:cNvSpPr/>
          <p:nvPr/>
        </p:nvSpPr>
        <p:spPr>
          <a:xfrm>
            <a:off x="395280" y="3283200"/>
            <a:ext cx="845820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7" name="Rectangle 9"/>
          <p:cNvSpPr/>
          <p:nvPr/>
        </p:nvSpPr>
        <p:spPr>
          <a:xfrm>
            <a:off x="539640" y="4325040"/>
            <a:ext cx="83757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Амон считался всесущим божеством воздуха и ветра, которое наполняет весь видимый мир, дает жизнь всему живущему</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9" name="Picture 5" descr="stock"/>
          <p:cNvPicPr/>
          <p:nvPr/>
        </p:nvPicPr>
        <p:blipFill>
          <a:blip r:embed="rId1"/>
          <a:stretch/>
        </p:blipFill>
        <p:spPr>
          <a:xfrm rot="21285000">
            <a:off x="250920" y="620640"/>
            <a:ext cx="2232000" cy="2048040"/>
          </a:xfrm>
          <a:prstGeom prst="rect">
            <a:avLst/>
          </a:prstGeom>
          <a:ln w="9360">
            <a:solidFill>
              <a:srgbClr val="000000"/>
            </a:solidFill>
            <a:miter/>
          </a:ln>
        </p:spPr>
      </p:pic>
      <p:sp>
        <p:nvSpPr>
          <p:cNvPr id="760" name="Rectangle 6"/>
          <p:cNvSpPr/>
          <p:nvPr/>
        </p:nvSpPr>
        <p:spPr>
          <a:xfrm>
            <a:off x="2700360" y="35280"/>
            <a:ext cx="6248520" cy="67086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2000" spc="-1" strike="noStrike">
              <a:solidFill>
                <a:srgbClr val="000000"/>
              </a:solidFill>
              <a:latin typeface="Tahoma"/>
            </a:endParaRPr>
          </a:p>
        </p:txBody>
      </p:sp>
      <p:pic>
        <p:nvPicPr>
          <p:cNvPr id="761" name="Picture 8" descr="Картинка 2 из 7687">
            <a:hlinkClick r:id="rId2"/>
          </p:cNvPr>
          <p:cNvPicPr/>
          <p:nvPr/>
        </p:nvPicPr>
        <p:blipFill>
          <a:blip r:embed="rId3"/>
          <a:stretch/>
        </p:blipFill>
        <p:spPr>
          <a:xfrm rot="568800">
            <a:off x="250560" y="2636640"/>
            <a:ext cx="2268360" cy="1701720"/>
          </a:xfrm>
          <a:prstGeom prst="rect">
            <a:avLst/>
          </a:prstGeom>
          <a:ln w="0">
            <a:noFill/>
          </a:ln>
        </p:spPr>
      </p:pic>
      <p:sp>
        <p:nvSpPr>
          <p:cNvPr id="7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2:00:46Z</dcterms:created>
  <dc:creator>www.PHILka.RU</dc:creator>
  <dc:description/>
  <dc:language>en-US</dc:language>
  <cp:lastModifiedBy>LEGION</cp:lastModifiedBy>
  <dcterms:modified xsi:type="dcterms:W3CDTF">2014-12-30T11:54:2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0a000000000001023620</vt:lpwstr>
  </property>
</Properties>
</file>